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F1E4-1429-49BF-9ED7-39A38EBFC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ACE0-0655-4DCE-A89C-0713957A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6E92-B123-480F-A80A-67640E6A5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7066-5558-493C-BA06-5CB97058B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7C4D-1905-4345-B0DA-A9C31D15C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DA91-143B-4F20-8517-FC9BB281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41F4-4F63-47B6-8E01-A6131A01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F7A6-72B2-4B7D-8883-A0FF8EB9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9804C-D4E1-472B-9F37-8A7813A6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1E55-D6FA-40AE-B05A-0962ABB2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4342-6FAF-48B3-AC1B-831338CD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D19F-7812-4FB8-8A57-05C3888D8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3672-5580-4E2D-8EBC-22A5FDC4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09AC-2B2A-4AA5-8EE2-1E621DAE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592C-9844-4BC4-A0BD-C4A801C9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68F5-209C-4817-BD6A-C840D3B9C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B096-D233-4BAB-96C2-3C829AAA2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BF3C-C09B-46DF-9E54-EE821C4E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75FA-E113-4B67-B136-FA27CA47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0664-8680-4481-9881-4BE1F245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B087-8104-47E8-97CE-E5B0A73B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CB22-46FB-4707-95F4-D52D721B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6481-C5AE-4F30-95F4-B93D391B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9BE5-3227-4D4F-B82B-F214B892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6C30-EF42-4573-9F17-DE4A6A9F919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B3B1-50A9-46CD-B486-9000107E430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ФОРМИРАЊЕ ЦЕНА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13" descr="memo grb copy"/>
          <p:cNvPicPr/>
          <p:nvPr/>
        </p:nvPicPr>
        <p:blipFill>
          <a:blip r:embed="rId4"/>
          <a:stretch/>
        </p:blipFill>
        <p:spPr>
          <a:xfrm>
            <a:off x="457200" y="0"/>
            <a:ext cx="80964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Формирање цен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з претпоставку да је стопа трошка администратора 750 еур, а лекара 2.150 еур може се израчунати трошак пације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Трошак капацитета за медицинску сестр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,4 са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8,58 еу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3,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Трошак капацитета за администратор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,3 са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6,96 еу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2,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Трошак капацитета за лекар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,15 са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19,19 еу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2,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Укупан трошак посете пацијента = 8,3 е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Формирање цен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ирање цена услуга здравствених установа зависи од већег броја факт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Политика це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може бити заснована на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два принцип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Покриће трошко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без изричито постављеног циља достизања одређеног ниво профита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Остваривање профитабилнос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Формирање цен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ступ формирања цена треба да буде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аснова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 неком од релеватних система обрачуна трошкова, а најбоље на неком од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авремених приступ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ецизног обрачуна трошко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е може се имати добар приступ формирања це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DABC обрачу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као основ за формирање цена дат је у наставк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Формирање цен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цијен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долази “спољни пацијент” у болниц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рачунавање укупних трошкова здравствене неге пацијент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захтева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идентификацију процеса и ресурс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који се троше проласком кроз процес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цијен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користи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административни проце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риликом регистрације на шалтеру и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медицински проце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Формирање цен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Административни проце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приликом регистрације на шалтеру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цијен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је потрошио 18 минута (0,3 сата) са администрато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Медицински проце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приликом преглед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цијен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је потрошио 24 минута (0,4 сата) са медицинском сестром и 9 минута (0,15 сати) са лекаром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Формирање цен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чун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колико кошта услуга по минуту или по сат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е заснива на следећој једначи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Стопа трошка запосленог који пружа услуг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Укупан трошак ресурса потребан за обављање здравствене услуге / Расположиви капацитет времена по запосленом који пружа здравствену услуг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Формирање цен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57200" y="1719360"/>
          <a:ext cx="8229600" cy="3538440"/>
        </p:xfrm>
        <a:graphic>
          <a:graphicData uri="http://schemas.openxmlformats.org/drawingml/2006/table">
            <a:tbl>
              <a:tblPr/>
              <a:tblGrid>
                <a:gridCol w="6400800"/>
                <a:gridCol w="182880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поставка трошкова за медицинску сест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 еври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ишњи трошкови плата и накна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6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ошкови надзора рада (10% укупних трошкова надзор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ишћење простора по м2 на годишњем нивоу (8 евра / м2 месечно, 10 м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 и подрш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упни годишњи трошко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5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упни месечни трошко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Формирање цен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7200" y="1719360"/>
          <a:ext cx="8229600" cy="4449600"/>
        </p:xfrm>
        <a:graphic>
          <a:graphicData uri="http://schemas.openxmlformats.org/drawingml/2006/table">
            <a:tbl>
              <a:tblPr/>
              <a:tblGrid>
                <a:gridCol w="6400800"/>
                <a:gridCol w="1828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положиви дани у годи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упан број д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ус викенд да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ус дани годишњег одмо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ус државни празниц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ус дани болова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упно расположиво дана у годи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упно расположиви дани у месец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положиви радни сати у недељ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ус пау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ус састанци, тренинг и едука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положиви радни сати у да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Формирање цен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дицинска сестра у случају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цијен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расположива је за рад са пацијентима 18,66 радних дана са по 6 сати са паци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има у дану. То је 112 сати рада месечно (18,6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6 = 1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Стопа трошка за медицинску сестр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962 еур / 112 = 8,58 еур по сат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3-30T15:51:02Z</dcterms:modified>
  <cp:revision>177</cp:revision>
  <dc:subject/>
  <dc:title>Soft and Hard Skills Development: A Current Situation in Serbian Companies</dc:title>
</cp:coreProperties>
</file>